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1F3-C609-4378-8CD2-992F551C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BF4-F73E-4C34-8F0C-244CB944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92B-B04D-4058-BB9B-56A8CD5E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371-1D70-4DD9-A27C-70C2BA6C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88B-AB22-4902-A7BC-670FF0A2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56D-8A1C-4BAE-9EEE-73F38471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59E-9506-4ECD-99EA-557201D0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83F-E979-47FD-AF35-741E544A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5F4-D941-472B-A1AC-B58792CE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DC3-1CE6-4028-8B7C-7F387E48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D17-EBBA-4C7E-8EBE-59D2E1A9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204-17EC-43DE-85D9-A6713F5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909C-891E-4780-8468-B3C461066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iv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7524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The Great Flood of 19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672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7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0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748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312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905120"/>
            <a:ext cx="7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29400" y="18730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18446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40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8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18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99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840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501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8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36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50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3632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18162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4120" y="18288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1840" y="182880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2920" y="1828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1828800"/>
            <a:ext cx="3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9720" y="17524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9080" y="18288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7160" y="1828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4680" y="1828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19051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72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16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9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40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1905120"/>
            <a:ext cx="3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56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20732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190512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90512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52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92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1905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406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1905120"/>
            <a:ext cx="5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5560" y="1873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5748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1905120"/>
            <a:ext cx="5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25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2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712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172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980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2895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0840" y="2025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0080" y="1905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44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888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85160" y="20257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732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540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9800" y="1905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971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4:57:18Z</dcterms:created>
  <dc:creator>New User</dc:creator>
  <dc:description/>
  <dc:language>en-US</dc:language>
  <cp:lastModifiedBy>Rutherford County Schools</cp:lastModifiedBy>
  <dcterms:modified xsi:type="dcterms:W3CDTF">2007-04-22T18:52:10Z</dcterms:modified>
  <cp:revision>21</cp:revision>
  <dc:subject/>
  <dc:title>Rivet</dc:title>
</cp:coreProperties>
</file>